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7.wmf" ContentType="image/x-wmf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explode.wav" ContentType="audio/x-wav"/>
  <Override PartName="/ppt/media/image11.png" ContentType="image/png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0EE1-B65D-4959-8319-AF3B7304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8CB1-DD58-4506-82EB-E951AB9F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59B1-D10A-4004-B5D0-439FDBC42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9BD2-0A3B-438A-9B30-49B0DB8C0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D93C9-531B-4A99-8B44-831B1CB33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288C-B74E-4E4E-9633-754800E2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59B5-0F3E-4618-8D28-B25AA72C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1AF6F-900C-44AB-B40A-FCC94911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FF561-6969-4C1C-BA6F-5AFCA332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0DF89-E622-46F2-B0AC-E5F81093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DDCE-423B-4151-9191-104BAA49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67B6-0F3A-42C8-B731-9D647FA1B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8376-E994-431C-8DDE-79CFFC23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F424-137F-4EC3-AFB1-AC637D877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32974-6607-4D9F-8122-BF7D3999B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BE8B-B8FE-45B6-A43A-A36B546DB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60BC-8D5C-4E86-B634-8FBA53A4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28DEE-9A94-46FA-B06D-9E13BBD2B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D6D02-4525-4828-9477-25314BF7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2E59E-8CA0-4F6C-90F9-C0DB7651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22810-BCFC-4B66-A6B1-FE1DEDD6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48F9C-C476-4617-BB86-EB6CE70F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A0FC-232E-4083-87F6-FED8AA29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87047-1E43-4651-80AD-603447C5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16E85-4D20-4329-A589-41358CA7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488F1-FA45-4855-B03F-82E411E1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5B5D9-B03F-413A-9E8C-8CC2B049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9A646-1BC9-4788-BDC9-E6CE2E69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603A9-2538-45A1-81CA-DEBACB5D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E48EF-90B3-45FA-B6B2-BFE571E2C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BE6E0-02EB-4258-9312-1DC050FFF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70B8D-75FE-457A-BD40-B7DE22000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41964-8E3E-413A-8958-7DB97180B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F8D1-3319-45DE-816C-D45489003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7EC39-C6BF-41EB-BC6A-8A3BA39D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36F10-8FA6-4242-9AF1-2438BBDB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BEB2B-EFEB-482D-9684-E3CB269B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FF92B-BC06-4C43-B61A-6594B75C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06178-EE42-4CEE-9188-6D6DD004C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015E0-4396-46BC-9FA5-CA6D2B1E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5E8AF-AFD9-4D17-8584-1BBC18D5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04522-C8CA-4679-909D-AE1C05B61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A7460-A25D-4057-852B-1EEC73D42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955B5-DE28-4852-BDC9-2CD801B6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0A1E-4C8F-43AD-922A-BE49BF638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C4B1E-C59B-47B0-956D-2A830EFB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12A27-2008-4957-988D-F2752C66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D0157-8024-4F00-B61B-E32DA123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6A417-ECE1-4E05-9EA9-9EB48EE6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7F214A-0F86-45D9-AAC4-2263105C1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D3999-1AA1-49E6-B324-863D7152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3F9E4-C86D-49E7-9537-5D0D3BA4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F0149-01C4-49FC-8A57-2BE108946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1B45E-7360-497D-B84C-E0B70862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CE9FB-89A3-4E74-9F00-8B7EB0F6C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5BF2-F22A-437B-99A6-F4080E6EB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FE082-AC27-47E2-A2BC-F8146230C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2C8EF-2294-4077-A922-C7524AB07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52174-1DF4-448C-BF72-F4F0CB7D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C6937-6603-4157-957B-EAD35090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7D0E8E-27AA-4A50-82C8-524D576E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441D3-EF9C-437D-87EA-4778DF71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D73CC-B1FB-42D3-BDEE-AA0536DC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30F0D-6DF6-4E6A-96F3-AA26BBEE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E1814-840C-4053-BB20-1F1B3168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94103-C956-4C12-8C8A-9BAF6FAB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E3D3-22EE-4CAD-B994-46FA9940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76374-4D67-44E5-AE38-126FC3B4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90A70-E124-40E5-85AF-51517AED6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D499D-74BE-40FF-AF0D-69C12EBE8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FC55-E760-436E-8AA7-5A4A0EB7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6EC0-57EA-4CA4-B553-1FF13407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06A5E-6932-4651-A9C9-DDA7A3264B1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ae1500"/>
              </a:gs>
              <a:gs pos="50000">
                <a:srgbClr val="f7593d"/>
              </a:gs>
              <a:gs pos="100000">
                <a:srgbClr val="ae15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e9a49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854E-C8E3-49CD-9799-35CBEE90D75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E85A-5B7F-4944-9AF6-201590B6F34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307E-FB8F-4990-824D-0BFB0081160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51E1-CF4C-4D8F-A629-AB8C710CAAA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e9a49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32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bb2e00"/>
              </a:gs>
              <a:gs pos="100000">
                <a:srgbClr val="ee8779"/>
              </a:gs>
            </a:gsLst>
            <a:lin ang="16200000"/>
          </a:gradFill>
          <a:ln cap="rnd" w="3240">
            <a:solidFill>
              <a:srgbClr val="9b320e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9e5d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9e5dc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d3481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9b2d1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3E51-C7A0-4977-80C0-C8E4E668806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9360">
            <a:solidFill>
              <a:srgbClr val="d34817"/>
            </a:solidFill>
            <a:miter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d3481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My  favorite  book  is  Stink.  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277" name="Title 1" descr=""/>
          <p:cNvPicPr/>
          <p:nvPr/>
        </p:nvPicPr>
        <p:blipFill>
          <a:blip r:embed="rId1"/>
          <a:stretch/>
        </p:blipFill>
        <p:spPr>
          <a:xfrm>
            <a:off x="225360" y="79200"/>
            <a:ext cx="8467920" cy="12988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C:\Program Files\Microsoft Office\MEDIA\CAGCAT10\j0217698.wmf"/>
          <p:cNvPicPr/>
          <p:nvPr/>
        </p:nvPicPr>
        <p:blipFill>
          <a:blip r:embed="rId2"/>
          <a:stretch/>
        </p:blipFill>
        <p:spPr>
          <a:xfrm>
            <a:off x="3699000" y="2583000"/>
            <a:ext cx="1746000" cy="1692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heel/>
    <p:sndAc>
      <p:stSnd>
        <p:snd r:embed="rId3" name="explod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Title 1" descr=""/>
          <p:cNvPicPr/>
          <p:nvPr/>
        </p:nvPicPr>
        <p:blipFill>
          <a:blip r:embed="rId1"/>
          <a:stretch/>
        </p:blipFill>
        <p:spPr>
          <a:xfrm>
            <a:off x="719280" y="105408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922560" y="2931840"/>
            <a:ext cx="4572000" cy="14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Favorite   place   in  the   woods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Sans Unicode"/>
              </a:rPr>
              <a:t>Far.</a:t>
            </a:r>
            <a:endParaRPr b="0" lang="en-US" sz="1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281" name="Picture 2" descr="C:\Program Files\Microsoft Office\MEDIA\CAGCAT10\j0293844.wmf"/>
          <p:cNvPicPr/>
          <p:nvPr/>
        </p:nvPicPr>
        <p:blipFill>
          <a:blip r:embed="rId2"/>
          <a:stretch/>
        </p:blipFill>
        <p:spPr>
          <a:xfrm>
            <a:off x="914400" y="3352680"/>
            <a:ext cx="1738440" cy="18273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heel/>
    <p:sndAc>
      <p:stSnd>
        <p:snd r:embed="rId3" name="explod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Title 1" descr=""/>
          <p:cNvPicPr/>
          <p:nvPr/>
        </p:nvPicPr>
        <p:blipFill>
          <a:blip r:embed="rId1"/>
          <a:stretch/>
        </p:blipFill>
        <p:spPr>
          <a:xfrm>
            <a:off x="719280" y="105408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3922560" y="2931840"/>
            <a:ext cx="4572000" cy="14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Favorite  food    hamburger.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transition spd="med" advTm="8000">
    <p:wheel/>
    <p:sndAc>
      <p:stSnd>
        <p:snd r:embed="rId2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Title 1" descr=""/>
          <p:cNvPicPr/>
          <p:nvPr/>
        </p:nvPicPr>
        <p:blipFill>
          <a:blip r:embed="rId1"/>
          <a:stretch/>
        </p:blipFill>
        <p:spPr>
          <a:xfrm>
            <a:off x="719280" y="105408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3922560" y="2931840"/>
            <a:ext cx="4572000" cy="14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A  famouse   person   that   I  want  to  meet    ozzy  osbourne.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transition spd="med" advTm="8000">
    <p:wheel/>
    <p:sndAc>
      <p:stSnd>
        <p:snd r:embed="rId2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0" y="-115920"/>
            <a:ext cx="8358120" cy="634536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3922560" y="2931840"/>
            <a:ext cx="4572000" cy="14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I  am   afraid  of   sharks.    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transition spd="med" advTm="8000">
    <p:wheel/>
    <p:sndAc>
      <p:stSnd>
        <p:snd r:embed="rId2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Title 1" descr=""/>
          <p:cNvPicPr/>
          <p:nvPr/>
        </p:nvPicPr>
        <p:blipFill>
          <a:blip r:embed="rId1"/>
          <a:stretch/>
        </p:blipFill>
        <p:spPr>
          <a:xfrm>
            <a:off x="719280" y="1054080"/>
            <a:ext cx="8474040" cy="18414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3922560" y="2931840"/>
            <a:ext cx="4572000" cy="14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What  I    want  to  be  when  I  grow   up    a  air  and  heating man.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transition spd="med" advTm="8000">
    <p:wheel/>
    <p:sndAc>
      <p:stSnd>
        <p:snd r:embed="rId2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Title 1" descr=""/>
          <p:cNvPicPr/>
          <p:nvPr/>
        </p:nvPicPr>
        <p:blipFill>
          <a:blip r:embed="rId1"/>
          <a:stretch/>
        </p:blipFill>
        <p:spPr>
          <a:xfrm>
            <a:off x="719280" y="105408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922560" y="2931840"/>
            <a:ext cx="4572000" cy="145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My   subject  P.E.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transition spd="med" advTm="8000">
    <p:wheel/>
    <p:sndAc>
      <p:stSnd>
        <p:snd r:embed="rId2" name="explod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3:26:49Z</dcterms:created>
  <dc:creator> pc#13</dc:creator>
  <dc:description/>
  <dc:language>en-US</dc:language>
  <cp:lastModifiedBy> pc#13</cp:lastModifiedBy>
  <dcterms:modified xsi:type="dcterms:W3CDTF">2009-11-12T20:10:43Z</dcterms:modified>
  <cp:revision>9</cp:revision>
  <dc:subject/>
  <dc:title>Who  am I </dc:title>
</cp:coreProperties>
</file>